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BF7-4185-40F3-9FEC-6656B238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586-4A36-4DE8-8626-C587141F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881-648B-44AA-8642-5138D28A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ABE-1FA8-4B42-B38E-EC5693C0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258-8661-4211-AEF8-8805F02F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D74-0C28-408E-B6DE-2135BC0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BBE-602C-4AC0-AE0A-6254C4C4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8A8-E4A7-4DD0-B83F-0F2BBC20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B92-71AA-4A09-AAC1-5A58E2FD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A08-BE88-45CC-85FF-75F2D910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415-CEC0-47BB-983C-075495C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2CA-F777-42E8-BB25-B9344E3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EEEF-E5D1-4ECB-83E9-C08D74151B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7702560" cy="245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EMA 3. LAS PROTEIN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ÁCTER ANFOTERO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A-anfoteros"/>
          <p:cNvPicPr/>
          <p:nvPr/>
        </p:nvPicPr>
        <p:blipFill>
          <a:blip r:embed="rId1"/>
          <a:stretch/>
        </p:blipFill>
        <p:spPr>
          <a:xfrm>
            <a:off x="155520" y="1484280"/>
            <a:ext cx="8520120" cy="51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25992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Rectángulo"/>
          <p:cNvSpPr/>
          <p:nvPr/>
        </p:nvSpPr>
        <p:spPr>
          <a:xfrm>
            <a:off x="395280" y="260280"/>
            <a:ext cx="81374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rebuchet MS"/>
              </a:rPr>
              <a:t>3. SOLUBLES EN AGUA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las cargas + y – (poco solubles los aas apolares), presentan también un alto punto de fu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rebuchet MS"/>
              </a:rPr>
              <a:t>4. ESTEREOISOMERÍA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l Carbono alfa es asimétrico, lo que hace que tenga propiedades ópticas y una conformación L y otra D. L si el NH2 está a la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izquierda y D si está a la derecha.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  LOS AMINOÁCIDOS QUE FORMAN PARTE DE LAS PROTEÍNAS VAN A SER 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799308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II. PÉPTID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611280" y="1314360"/>
            <a:ext cx="8208720" cy="5283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547640" y="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LACE PEPTÍDICO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rebuchet MS"/>
              </a:rPr>
              <a:t>enlace amida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"/>
          <p:cNvPicPr/>
          <p:nvPr/>
        </p:nvPicPr>
        <p:blipFill>
          <a:blip r:embed="rId1"/>
          <a:stretch/>
        </p:blipFill>
        <p:spPr>
          <a:xfrm>
            <a:off x="2340000" y="3500280"/>
            <a:ext cx="6804000" cy="3357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3"/>
          <p:cNvPicPr/>
          <p:nvPr/>
        </p:nvPicPr>
        <p:blipFill>
          <a:blip r:embed="rId2"/>
          <a:stretch/>
        </p:blipFill>
        <p:spPr>
          <a:xfrm>
            <a:off x="324000" y="0"/>
            <a:ext cx="5976720" cy="357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79280" y="1890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Átomos del enlace peptíd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50920" y="530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La cadena de aminoácidos gira en torno a los carbono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 CuadroTexto"/>
          <p:cNvSpPr/>
          <p:nvPr/>
        </p:nvSpPr>
        <p:spPr>
          <a:xfrm>
            <a:off x="6300720" y="260280"/>
            <a:ext cx="2519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 DEL ENLACE PEPTÍD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átomos están en un mismo pla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rígi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doble enlace es rígido, rotan los C alf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lace coval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cadena polipeptídica presenta forma de zigza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4572000" y="2781360"/>
            <a:ext cx="38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as se unen y dan tri,tetra, hasta polipépt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dena principal y latera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icio, grupo amino libre y final grupo carboxilo libr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III. ESTRUCTURA DE LAS 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IPOS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2 CuadroTexto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gún su form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BROSAS: forma de hebras alargadas poco plegadas, insolubles en agua, función estructural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lágeno, quera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LOBULARES: muy plegadas, forma casi esférica, solubles en agua, función dinámica y catalizad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s adelante las estudiaremos más en detal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olagenoIII"/>
          <p:cNvPicPr/>
          <p:nvPr/>
        </p:nvPicPr>
        <p:blipFill>
          <a:blip r:embed="rId1"/>
          <a:stretch/>
        </p:blipFill>
        <p:spPr>
          <a:xfrm>
            <a:off x="155520" y="3645000"/>
            <a:ext cx="218448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inta estructura de la mioglobina"/>
          <p:cNvPicPr/>
          <p:nvPr/>
        </p:nvPicPr>
        <p:blipFill>
          <a:blip r:embed="rId2"/>
          <a:stretch/>
        </p:blipFill>
        <p:spPr>
          <a:xfrm>
            <a:off x="4140360" y="3645000"/>
            <a:ext cx="460836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0756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primaria viene determinada por la secuencia de AA en la cadena proteica, es decir, el número de AA presentes, tipo y el orden en que están enlazados. Todas las proteínas presentan estructura primaria. Hay una cadena principal y laterales. El inicio es el extremo con el grupo amino y el final el extremo con el grupo carboxil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rimary"/>
          <p:cNvPicPr/>
          <p:nvPr/>
        </p:nvPicPr>
        <p:blipFill>
          <a:blip r:embed="rId1"/>
          <a:stretch/>
        </p:blipFill>
        <p:spPr>
          <a:xfrm>
            <a:off x="155520" y="3068640"/>
            <a:ext cx="859320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SECUNDARIA</a:t>
            </a:r>
            <a:br>
              <a:rPr sz="32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posición de la secuencia de aas en el espacio, por el C alf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FA-HÉ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adena polipeptídica se enrolla e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pir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obre sí misma a lo largo de un eje imaginario por los giros producidos en torno al carbono alfa de cada aminoácido, hay 3,6 aas por giro y sentido dextróg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dena de forma paralela y los radicales hacia fuer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erpendiculares al ej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mantiene gracias a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nlaces de hidrógeno intracatenari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ados entre el grupo -NH de un enlace peptídico y el grupo -C=O del cuarto aminoácido que le sigue y a las interacciones electrostáticas de los R de las cadenas. Ej: alfa-queratinas y mioglob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Diapositiva10"/>
          <p:cNvPicPr/>
          <p:nvPr/>
        </p:nvPicPr>
        <p:blipFill>
          <a:blip r:embed="rId1"/>
          <a:stretch/>
        </p:blipFill>
        <p:spPr>
          <a:xfrm>
            <a:off x="900000" y="3213000"/>
            <a:ext cx="7272360" cy="36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89000"/>
            <a:ext cx="8291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JA PLEGADA (LÁMINA BETA O BETA LAMINAR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Disposición de las cadenas en lámina pleg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os radicales por encima y debajo de la cadena, los C alfa puntos de pleg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antienen por los puentes de hidrógeno intercatenarios o intracaten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hola plegada beta puede formarse entre dos cadenas peptídicas o entre diferentes segmentos de una misma cadena peptídica. Ej. fibroína y A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3-16b"/>
          <p:cNvPicPr/>
          <p:nvPr/>
        </p:nvPicPr>
        <p:blipFill>
          <a:blip r:embed="rId1"/>
          <a:stretch/>
        </p:blipFill>
        <p:spPr>
          <a:xfrm>
            <a:off x="468360" y="2565360"/>
            <a:ext cx="835164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roteínas son moléculas formadas básicamente por carbono, hidrógeno, oxígeno y nitró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además contener azufre y en algunos tipos: fósforo, hierro, magnesio y co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polímeros no ramificados de pequeñas moléculas que reciben el nombre de aminoácidos (formados por los anteriores bioelementos) y serían por tanto los monómeros o 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MPORTANCIA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as más abundantes de los seres vivos, 50 % peso seco de la materia v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diversidad de fun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cíficas de cada ser vivo y especie. Gran diversidad morfológica y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S DE LÁMINA PLEG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iparalel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orma cuando las dos cadenas polipeptídicas corren en dirección opu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lel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s cadenas polipeptídicas adyacentes corren en la misma dire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63272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CuadroTexto"/>
          <p:cNvSpPr/>
          <p:nvPr/>
        </p:nvSpPr>
        <p:spPr>
          <a:xfrm>
            <a:off x="1042920" y="9079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ÉLICE TRIPLE DE COLÁ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a alfa hélice extendida, estabilizada por la asociación de 3 hélices empaquetadas. Ej. Colágeno (hueso,  dientes, tendones, p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TERC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69228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RZAS QUE ESTABILIZAN LA ESTRUCTURA TERCI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stablecen entre las distintas cadenas laterales de los AA que la componen. Pueden ser de do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val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ción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nte disulfu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dos cadenas laterales de Cys, o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ami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-CO-NH-) entre las cadenas laterales de la Lys y un AA dicarboxílico (Glu o As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coval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ones electrost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cadenas laterales ionizadas, con cargas de signo opuesto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ntes de hidr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tre las cadenas laterales de AA polares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ones hidrofób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cadenas laterales apolares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rzas de Van der Wa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IPOS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Fibros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ca modificación de la estructura secundaria, poseen una forma de haces lineales o de cuerda, suelen tener función estructural, de protección o ambas a la vez y son insolubles en agua. Por ejemplo, la queratina, el colágeno y la elas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lagenoIII"/>
          <p:cNvPicPr/>
          <p:nvPr/>
        </p:nvPicPr>
        <p:blipFill>
          <a:blip r:embed="rId1"/>
          <a:stretch/>
        </p:blipFill>
        <p:spPr>
          <a:xfrm>
            <a:off x="155520" y="1557360"/>
            <a:ext cx="37688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Globular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esentan una forma esférica o de ovillo, interior compacto apolar y exterior hidrófilo, son solubles en agua y una gran parte desempeñan funciones de transporte, enzimas, etc. Por ejemplo la hemoglobina, mioglobina,etc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inta estructura de la mioglobina"/>
          <p:cNvPicPr/>
          <p:nvPr/>
        </p:nvPicPr>
        <p:blipFill>
          <a:blip r:embed="rId1"/>
          <a:stretch/>
        </p:blipFill>
        <p:spPr>
          <a:xfrm>
            <a:off x="155520" y="2133720"/>
            <a:ext cx="859320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proteínas de elevado peso molecular, existen regiones diferenciadas dentro de la estructura terciaria que presenta segmentos en alfa-hélice y en hoja plegada, que actúan como unidades autónomas de plegamiento y/o desnaturalización de las proteínas, reciben el nombre de dominios. Los dominios se pliegan por separado a medida que se sintetiza la cadena polipept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Fig3_18"/>
          <p:cNvPicPr/>
          <p:nvPr/>
        </p:nvPicPr>
        <p:blipFill>
          <a:blip r:embed="rId1"/>
          <a:stretch/>
        </p:blipFill>
        <p:spPr>
          <a:xfrm>
            <a:off x="1835280" y="2133720"/>
            <a:ext cx="496872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CUATER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origina mediante enlaces débiles ( no covalentes) de varias cadenas polipeptídicas con estructura terciaria, para formar un complejo proteico. Cada una de estas cadenas recibe el nombre de sub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hemoglobin"/>
          <p:cNvPicPr/>
          <p:nvPr/>
        </p:nvPicPr>
        <p:blipFill>
          <a:blip r:embed="rId1"/>
          <a:stretch/>
        </p:blipFill>
        <p:spPr>
          <a:xfrm>
            <a:off x="155520" y="1916280"/>
            <a:ext cx="5711760" cy="475272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6377400" y="39337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oglob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UMEN I. ESTRUCTURAS 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estructura_proteinas"/>
          <p:cNvPicPr/>
          <p:nvPr/>
        </p:nvPicPr>
        <p:blipFill>
          <a:blip r:embed="rId1"/>
          <a:stretch/>
        </p:blipFill>
        <p:spPr>
          <a:xfrm>
            <a:off x="155520" y="907920"/>
            <a:ext cx="8664480" cy="595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UMEN II. ESTRUCTURA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688040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60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1599840"/>
            <a:ext cx="8642160" cy="226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IV. PROPIEDADES DE LAS PROTEÍ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I. AMINOACID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LU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a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teínas globular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n parte de las dispersiones coloidales debido a su peso molecular. Son solubles porque los grupos R al ionizarse establecen puentes de hidrógeno con el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cuando una proteína se solubiliza queda recubierta de una capa de moléculas de agua (capa de solvatación) que impide que se pueda unir a otras proteínas lo cual provocaría su precipitación (insolubilización). Esta propiedad es la que hace posible la hidratación de los tejidos de los seres vivos. Son solubles debido a su función diná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a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teínas fibrosa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on solubles en agua, las moléculas de agua no pueden cubrirlas, se unen entre sí  precipitan. Tienen funcione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Las membranas biológicas son impermeables a las prteí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ESPECIFICIDAD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íficas de cada especie e incluso entre individuos (determinadas genes)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roteínas homólogas, desempeñan la misma función en distintas especies pero cambian algunos de sus aas (permite analizar relaciones evolutivas entre especies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Responsables de los rechazos de los trasplantes de órganos y transfusiones de sangre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 CAPACIDAD AMORTIGUADORA DEL PH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su carácter anfótero, neutralizan cambios de ph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 DESNATURALIZACIÓN Y RENATU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SNATUR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la proteína no ha sufrido ningún cambio en su interacción con el disolvente, se dice que presenta 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 na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Se lla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naturaliz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s proteínas a 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érdida de las estructuras de orden superi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secundaria, terciaria y cuaternaria), por la ruptura de los enlaces que mantienen dichas estructuras, quedando la cadena polipeptídica reducida a un polímero sin ninguna estructura tridimensional fija, perdiendo su actividad biológ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CTORES QUE PRODUCEN LA DESNATUR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ustancias polares (polaridad del disolvente)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añaden sustancias como el etanol o la acetona. Con ello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isminuye el grado de hidratación de los grupos iónicos superficiales de la molécula prote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rovocando la agregación y precip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isolventes orgánic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teraccionan con el interior hidrofóbico de las proteínas y desorganizan la estructura terciar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provocando su desnaturalización y precipitación. La acción de los detergentes es similar a la de los disolventes orgán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alinidad (fuerza iónica)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n aumento de la fuerza iónica del medio ,provoc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una disminución en el grado de hidratación de los grupos iónicos superficiales de la proteí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ya que estos solut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mpiten por el agua y rompen los puentes de hidrógeno o las interacciones electrostátic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de forma que las moléculas proteicas se agregan y precipitan. Es rever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Ph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os iones H+ y OH- del agua provocan efectos parecidos, pero además tambié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fectan a la carga eléctrica de los grupos ácidos y básicos de las cadenas laterales de los aminoáci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Esta alteración de la carga superficial de las proteínas elimina las interacciones electrostáticas que estabilizan la estructura terciaria y a menudo provoca su precip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mperatur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uando la temperatura es elevad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umenta la energía cinética de las moléculas con lo que se desorganiza la envoltura acuosa de las proteí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y se desnaturalizan. Asimismo, un aumento de la temperatur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struye las interacciones débiles y desorganiza la estructura de la proteí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de forma que el interior hidrofóbico interacciona con el medio acuoso y se produce la agregación y precipitación de la proteína desnatur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9280" y="189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NATUR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Revers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roteína desnaturalizada cuenta únicamente con su estructura primaria. Por este motivo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muchos casos, la desnaturalización es rever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a que es la estructura primaria la que contiene la información necesaria y suficiente para adoptar niveles superiores de estructuración. El proceso mediante el cual la proteína desnaturalizada recupera su estructura nativa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naturaliz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Irrevers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, la desnaturalización conduce a la pérdida total de la solubilidad, con lo que la proteína precipita. La formación de agregados fuertemente hidrofóbicos impide su renaturalización, y hacen que el proceso se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rever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ONOCIMIENTO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cción de Biuret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CuSO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ona el Cu ++ con los e- no comprartidos del enlace peptídico, da un color vi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commons/thumb/c/c7/Reactivo_de_Biuret.svg/400px-Reactivo_de_Biuret.svg.png"/>
          <p:cNvPicPr/>
          <p:nvPr/>
        </p:nvPicPr>
        <p:blipFill>
          <a:blip r:embed="rId1"/>
          <a:stretch/>
        </p:blipFill>
        <p:spPr>
          <a:xfrm>
            <a:off x="1763640" y="5305320"/>
            <a:ext cx="3810240" cy="155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renaturation"/>
          <p:cNvPicPr/>
          <p:nvPr/>
        </p:nvPicPr>
        <p:blipFill>
          <a:blip r:embed="rId1"/>
          <a:stretch/>
        </p:blipFill>
        <p:spPr>
          <a:xfrm>
            <a:off x="155520" y="189000"/>
            <a:ext cx="898848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8920" y="1700280"/>
            <a:ext cx="8713800" cy="295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V. </a:t>
            </a: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 DE LAS 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sada en la forma de las proteí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)   Proteínas globula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án constituidas por cadenas polipeptídicas plegadas estrechamente, de modo que adoptan formas esféricas o globulares compac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solubles en sistemas acuosos, los aminoácidos hidrofóbicos están usualmente en el interior de la proteína globular, mientras que los hidrofílicos están en el exterior, interactuando con el agua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 función dentro de la célula es móvil y dinámica, estas proteínas tienen función metabólica: catálisis, transporte, regulación, protección…Estas funciones requieren solubilidad en la sangre y en otros medios acuosos de celulas y tejidos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s de estas proteínas son los enzimas, anticuerpos, hormonas, hemoglobin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isten proteínas que se encuentra entre las fibrosas por sus largas estructuras y las globulares por su solubilidad en las soluciones salinas. Ej. : (miosina, fibrinóge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)   Proteínas fibros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aquellas que se hayan constituidas por cadenas polipeptídicas, ordenadas de modo paralelo a lo largo de un eje formando estructuras compactas ( fibras o lámi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resistentes e insolubles en agua y soluciones salinas dilu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yor parte desempeñan un papel estructural y/o mecánico. Tienden a formar estructuras de alta regularidad, lo cual deriva a su vez de la alta regularidad de la estructura pri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s de estas proteínas son la queratina, el colágeno, elastin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mg_collagene-1"/>
          <p:cNvPicPr/>
          <p:nvPr/>
        </p:nvPicPr>
        <p:blipFill>
          <a:blip r:embed="rId1"/>
          <a:stretch/>
        </p:blipFill>
        <p:spPr>
          <a:xfrm>
            <a:off x="2124000" y="6021360"/>
            <a:ext cx="3960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emoglobine"/>
          <p:cNvPicPr/>
          <p:nvPr/>
        </p:nvPicPr>
        <p:blipFill>
          <a:blip r:embed="rId2"/>
          <a:stretch/>
        </p:blipFill>
        <p:spPr>
          <a:xfrm>
            <a:off x="3780000" y="3141720"/>
            <a:ext cx="2232000" cy="11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Basada en la composi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ínas Simples u holoproteína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madas solamente por aminoácidos que forman cadenas peptidic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ínas conjugadas o heteroproteí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as por aminoácidos y por un compuesto no peptídico. En estas proteínas, la porción polipeptídica se denomina apoproteína y la parte no proteica se denomina grupo prostético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acuerdo al tipo de grupo prostético, las proteínas conjugados pueden clasificarse a su vez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ucle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grupo prostético es un ácido nucle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luc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grupos prostéticos son uno o varios azúc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p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parte no proteica son fosfolípidos, ácidos grasos u otros líp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em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grupo prostético es el grupo he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sfoproteín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grupo prostético es el ácido fosfó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599840"/>
            <a:ext cx="8507520" cy="319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 anchorCtr="1">
            <a:normAutofit/>
          </a:bodyPr>
          <a:p>
            <a:pPr marL="343080" indent="-34308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VI. FUNCIONES DE LAS PROTEÍN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18864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l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an tejidos de sostén y relleno que confieren elasticidad y resistencia a órganos y tejidos como el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láge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l tejido conjuntivo fibroso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lasti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tejido conjuntivo elástico. Algunas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roteínas forman estructuras celula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mo la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hist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que forman parte de los cromosomas que regulan la expresión gené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zimá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on las más especializadas y numerosas. Actúan como biocatalizadores acelerando las reacciones químicas del metabo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nsporte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jemplos de ello son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hemoglob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ioglob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, proteínas transportadoras del oxígeno en la sangre en los organismos vertebrados y en los músculos respectivamente.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itocrom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transportan electrones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lipoproteí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transportan lípidos por la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meostá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mantienen el medio interno constante,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ibrinógen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coagulación sangre)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eroalbúm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constante el p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ergé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i fuera necesario,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s proteínas cumplen también una función energ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ara el organismo pudiendo aportar hasta 4 Kcal. por gramo. Ejemplos son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lactoalbúm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leche o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ovoalbúm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clara de hue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rmona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stancias producidas por las células que realizan su efecto sobre otras que tienen un receptor donde se acopla dicha hormona. Ejemplos son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la insuli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el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lucag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regulan el nivel de glucosa en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áctil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ontracción de los músculos través de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iosina y actin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una función de las proteínas contráctiles que facilitan el movimiento de las células constituyendo las miofibrillas que son responsables de la contracción de los músculos. 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ine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que está relacionada con el movimiento de cilios y flage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ensiv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a que crean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nticuerp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egulan factores contra agentes extraños o infeccione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. Toxinas bacteria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mo venenos de serpientes o la del botulismo son proteínas generadas con funciones defens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onocimiento celular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teínas de membrana son receptores de hormonas (neuro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cimiento y diferenciación celular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an la fracción del ADN que se va expre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826920" y="26028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rebuchet MS"/>
              </a:rPr>
              <a:t>CONCEPTO Y ESTRUCTURA DE UN AMINOAC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116000" y="14130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minoácidos se caracterizan por poseer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upo carboxil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COOH) y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upo amin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NH2).  Las otras dos valencias 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no se saturan con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átomo de H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on u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rupo variabl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nominado radical R. Según el tipo de radical, se distinguen 20 tipos de aminoácidos. Los que forman parte de las proteínas se les llam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 aminoáci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3959280" cy="214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MINOACIDOS ES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aquellos que el propio organismo no puede sintetizar por sí mismo. Esto implica que la única fuente de estos aminoácidos es la ingesta directa a través de la di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un alimento contiene proteínas con todos los aminoácidos esenciales, se dice que son de alta o de buena c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 los alimentos con todos los aminoácidos esenciales son: la carne, los huevos, los lácteos y algunos vegetales como la s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s aminoácidos son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Fenilalanina,Metionina, Histidina, Triptófano, Treonina, Leucina, Isoleucina, Lisina, V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tabla 3"/>
          <p:cNvPicPr/>
          <p:nvPr/>
        </p:nvPicPr>
        <p:blipFill>
          <a:blip r:embed="rId1"/>
          <a:stretch/>
        </p:blipFill>
        <p:spPr>
          <a:xfrm>
            <a:off x="3060720" y="2637000"/>
            <a:ext cx="543096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tabla 1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abla 2"/>
          <p:cNvPicPr/>
          <p:nvPr/>
        </p:nvPicPr>
        <p:blipFill>
          <a:blip r:embed="rId3"/>
          <a:stretch/>
        </p:blipFill>
        <p:spPr>
          <a:xfrm>
            <a:off x="684360" y="2637000"/>
            <a:ext cx="2379600" cy="1728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LASIFICACION DE LOS AMINOA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ún el tipo de radical, se distinguen 20 tipos de aminoáci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- Aminoácidos del grupo I (apolar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tabla 5"/>
          <p:cNvPicPr/>
          <p:nvPr/>
        </p:nvPicPr>
        <p:blipFill>
          <a:blip r:embed="rId4"/>
          <a:stretch/>
        </p:blipFill>
        <p:spPr>
          <a:xfrm>
            <a:off x="3060720" y="3789360"/>
            <a:ext cx="542916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abla 4"/>
          <p:cNvPicPr/>
          <p:nvPr/>
        </p:nvPicPr>
        <p:blipFill>
          <a:blip r:embed="rId5"/>
          <a:stretch/>
        </p:blipFill>
        <p:spPr>
          <a:xfrm>
            <a:off x="684360" y="436572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tabla 6"/>
          <p:cNvPicPr/>
          <p:nvPr/>
        </p:nvPicPr>
        <p:blipFill>
          <a:blip r:embed="rId6"/>
          <a:stretch/>
        </p:blipFill>
        <p:spPr>
          <a:xfrm>
            <a:off x="3060720" y="5084640"/>
            <a:ext cx="5432400" cy="15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6920" y="476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- Aminoácidos del grupo II (polares no ionizabl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tabla 7"/>
          <p:cNvPicPr/>
          <p:nvPr/>
        </p:nvPicPr>
        <p:blipFill>
          <a:blip r:embed="rId1"/>
          <a:stretch/>
        </p:blipFill>
        <p:spPr>
          <a:xfrm>
            <a:off x="179280" y="981000"/>
            <a:ext cx="8772480" cy="153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tabla 8"/>
          <p:cNvPicPr/>
          <p:nvPr/>
        </p:nvPicPr>
        <p:blipFill>
          <a:blip r:embed="rId2"/>
          <a:stretch/>
        </p:blipFill>
        <p:spPr>
          <a:xfrm>
            <a:off x="179280" y="2492280"/>
            <a:ext cx="878040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tabla 9"/>
          <p:cNvPicPr/>
          <p:nvPr/>
        </p:nvPicPr>
        <p:blipFill>
          <a:blip r:embed="rId3"/>
          <a:stretch/>
        </p:blipFill>
        <p:spPr>
          <a:xfrm>
            <a:off x="179280" y="3933720"/>
            <a:ext cx="879156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4360" y="404640"/>
            <a:ext cx="79200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- Aminoácidos del grupo III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lares ionizables ácidos: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b) Polares ionizables básic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tabla 10"/>
          <p:cNvPicPr/>
          <p:nvPr/>
        </p:nvPicPr>
        <p:blipFill>
          <a:blip r:embed="rId1"/>
          <a:stretch/>
        </p:blipFill>
        <p:spPr>
          <a:xfrm>
            <a:off x="179280" y="1413000"/>
            <a:ext cx="8820360" cy="149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tabla 11"/>
          <p:cNvPicPr/>
          <p:nvPr/>
        </p:nvPicPr>
        <p:blipFill>
          <a:blip r:embed="rId2"/>
          <a:stretch/>
        </p:blipFill>
        <p:spPr>
          <a:xfrm>
            <a:off x="179280" y="2852640"/>
            <a:ext cx="8812440" cy="16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tabla 12"/>
          <p:cNvPicPr/>
          <p:nvPr/>
        </p:nvPicPr>
        <p:blipFill>
          <a:blip r:embed="rId3"/>
          <a:stretch/>
        </p:blipFill>
        <p:spPr>
          <a:xfrm>
            <a:off x="179280" y="4508640"/>
            <a:ext cx="879948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0"/>
            <a:ext cx="8820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PROPIEDADES DE LOS AMINOÁC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rebuchet MS"/>
              </a:rPr>
              <a:t>1. SÓLIDAS, INCOLORAS Y NO HIDROLIZ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250920" y="1268280"/>
            <a:ext cx="871380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. CARÁCTER ANFÓTE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Una molécula se denomina anfótera cuando puede comportarse como un ácido o como una base dependiendo del pH del medio donde se encuentre. Éste es el caso de los aminoácidos: al tener un grupo carboxilo pueden desprender protones (H+) por lo que tienen carácter ácido; por otra parte, al poseer un grupo amino, son capaces de aceptar protones (H+) y, por tanto, también tienen carácter bás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l pH existente habitualmente en los medios biológicos, cercano a la neutralidad (Ph =7)  ambos grupos suelen estar ionizados y los aminoácidos aparecen como iones dob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A un pH más ácid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 los aminoácidos tendrán carga neta positiva, pues los H+ del medio son captados por el grupo carboxilo ionizado, neutralizando éste y quedando únicamente la carga del grupo amin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A un pH más básic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 el grupo amino cederá un H+ al medio y el aminoácido quedará con carga negativ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cadena lateral (R) puede tener grupos ionizables que participan en la carga eléctrica del aminoáci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valor de pH para el cual un aminoácido tiene carga neta 0, es decir, posee tantas cargas positivas como negativas, se denomina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unto isoeléctric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Cada aminoácido presenta un punto isoeléctrico diferente, ya que posee cadenas laterales distintas, se puede utilizar un método de separación de aminoácidos, denominado </a:t>
            </a:r>
            <a:r>
              <a:rPr b="0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electroforesi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, que se basa en este concept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11:36Z</dcterms:created>
  <dc:creator>MANOLO</dc:creator>
  <dc:description/>
  <dc:language>en-US</dc:language>
  <cp:lastModifiedBy>Centor</cp:lastModifiedBy>
  <dcterms:modified xsi:type="dcterms:W3CDTF">2015-10-25T20:24:41Z</dcterms:modified>
  <cp:revision>50</cp:revision>
  <dc:subject/>
  <dc:title>UNIDAD 3. LAS PROTEINAS</dc:title>
</cp:coreProperties>
</file>